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53C-ADB0-4A08-9F30-9A22A72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BA5-56F7-4D14-848B-0D6B7809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DEF-56B6-4FF3-9ECA-03C06C94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9EB-14E1-4FC6-BCB6-9715582E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C72-CD24-449C-A1FC-E3DE044E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7B8-E631-47F6-9447-2CE4BBB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213-6A18-46F3-8B61-F778B52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4B0-71D2-4324-8D34-DD204D1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7E3-AFE3-4872-8876-6773054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E74-2F1F-4D69-AC7D-8650556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097-6017-491E-939B-1C5D5E0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6C9-1F9F-4B20-96A4-DDDFA0E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1B67-E616-48B1-ADA2-E619A5F1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otball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172200" cy="4593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457200"/>
            <a:ext cx="472428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 love Football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 love Footbal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4648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46483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19920" y="468648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277040" y="15238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457880" y="16002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29480" y="152388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qb_passing" descr=""/>
          <p:cNvPicPr/>
          <p:nvPr/>
        </p:nvPicPr>
        <p:blipFill>
          <a:blip r:embed="rId1"/>
          <a:stretch/>
        </p:blipFill>
        <p:spPr>
          <a:xfrm>
            <a:off x="39600" y="685800"/>
            <a:ext cx="430380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609480"/>
            <a:ext cx="472428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row the bal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row the b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81560" y="46483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467480" y="46483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981760" y="468648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086600" y="15238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atch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497040" cy="624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609480"/>
            <a:ext cx="419076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tch the bal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tch the b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86600" y="15238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191120" y="46483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467480" y="46483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905440" y="468648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Mwball3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6019920" cy="3998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33520"/>
            <a:ext cx="434340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un the ball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un the bal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320" y="45720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86280" y="45720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638360" y="46101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514600" y="1447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0880" y="15238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f-touchdown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25124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685800"/>
            <a:ext cx="434340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uchdown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uchd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52960" y="468648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62920" y="468648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15000" y="472428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320" y="5029200"/>
            <a:ext cx="4267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44:15Z</dcterms:created>
  <dc:creator>Carol Shockley</dc:creator>
  <dc:description/>
  <dc:language>en-US</dc:language>
  <cp:lastModifiedBy>Carol Shockley</cp:lastModifiedBy>
  <dcterms:modified xsi:type="dcterms:W3CDTF">2003-02-04T19:49:59Z</dcterms:modified>
  <cp:revision>3</cp:revision>
  <dc:subject/>
  <dc:title>PowerPoint Presentation</dc:title>
</cp:coreProperties>
</file>